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579A-41ED-44A9-A017-0E60DA0B2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E153-DD60-4967-B888-2622A788E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0A3D-3AC8-4931-9770-091D7521B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7515-1620-4262-AD40-16A4FDA0B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4CC1-7154-4A4F-80C3-AFD05DA4E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142D-3C38-4F63-89BF-DC28A2469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1612-FD51-4CFD-81F1-09CC3ABDA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30FB-1CCC-4579-AB94-DE09AA28D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A034-D83A-43B2-AF91-C62EE96A5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4A0E-BB75-4D76-904E-4ACA7E422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4E76-1B48-4A3F-9445-BE5512B74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91C5-5EE1-432C-816B-16B9D18D7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418A-33A5-4196-8E87-45D3842297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01qs.com/" TargetMode="External"/><Relationship Id="rId2" Type="http://schemas.openxmlformats.org/officeDocument/2006/relationships/hyperlink" Target="http://www.youtube.com/watch?v=jp_oyHY5bu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creencast.com/t/dApzpmm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3C0E-8D6B-43BD-BD99-81294D12EB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peaking of Noticing and Wondering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01q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d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A8E-7EF6-4594-A394-53DC139B65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fraction, e.g. numeric or algebraic or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 your fraction in as many ways as you c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each representation on a sticky note – one representation per sticky n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BFF3-BD53-4A2F-A95E-A6C479A942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m larger groups by combining 2 or 3 small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ick up chart paper and ma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ol your sticky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oup and categorize the sticky notes into whatever categories seem appropri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bel each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t your work for others to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E09A-BC65-4870-983E-5731B1E9C2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presenting Fra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criteria did you use to group the sticky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ones were difficult to plac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re there some you kept moving from category to category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4F9E-9D0F-4A0A-9B54-A293BFA9FD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Today’s Plenary Sess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is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action meanings and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87A5-62F4-494E-9B0F-7B4BB22A95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Facilitator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McAteer, Instructional Coach, Math, Secondary, Curriculum Services, Ottawa Carlet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Petro, Secondary DI Numeracy Support, Windsor-Essex Catholic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 Timson, Secondary Math Teacher/Consultant (retired), York Region D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C63D-1B92-4021-BBDC-22571CBDFE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41656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9A0B-35FD-4C32-B539-F9B5D5A9FA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eanings and representations of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misconceptions of fraction concepts in the Gr. 9-12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7910-55E2-4890-94D0-5C59330FC6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9377-E361-4145-90A2-A4FDFEBDB3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ession Agend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tice and Wo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students as they work with fraction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presenting F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our experiences with different representation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A9D9-192C-4F39-BE55-3560D30948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ticker Bar Grap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roduce yourself at you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.e. your name, where/what you teach, something abou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lace stickers on the posted chart paper to make a double bar grap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yellow sticker for each course you have t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green sticker for each course you will teach next year and/or each course you would like to focus on in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1E09-8359-4233-99F9-120E93B163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914400" y="3962520"/>
            <a:ext cx="228600" cy="228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4419720"/>
            <a:ext cx="228600" cy="2286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your experiences with students as they work with fraction concepts – wherever and however they come up in Gr. 9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about watching them, listening to them, talking to them, and reviewing their wor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have you noticed?  What do you won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few minutes to jot down some thoughts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6D3A-5CFF-4D48-A1EC-4B31556824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nie Fetter, NCTM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38E6-CD27-439F-819C-4B180C62ED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Notice and Wonder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items from your worksheet with your smal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 a group, select 1 or 2 items to share with the whol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569-F502-419E-8A42-FE330819BC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4T01:16:09Z</dcterms:modified>
  <cp:revision>26</cp:revision>
  <dc:subject/>
  <dc:title>&lt;Title&gt;</dc:title>
</cp:coreProperties>
</file>